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explode.wav" ContentType="audio/x-wav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2D3F-EC12-4A57-ADAC-CCFBD0806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D67A-B2CC-43CE-8DBC-32F91BAAC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A7F5-5D00-4295-96B9-311F0EC05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ECE9-D374-45C7-BAD8-1BE4BB1C4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7FBB0-FBA6-4771-8E07-A4E4990F5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0669C-6CD5-42BA-8A37-84B57A4B4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83466-2E19-431A-BC2F-33FFFDD2B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EFC67-6454-4A1A-8EC1-E62C8016A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65A7A-660D-4D0F-B63C-00EFE4A40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5D810-486C-4FDF-A282-0A8F62025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D2B2E-5974-49B5-AC49-C2CA7C94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E7B8-A7F2-4E84-9C07-828974013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BCD9E-0732-4248-B8B8-8D6F43E63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53933-CB56-4A03-B671-DFA39C1AD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EA178-80EF-4E73-85DF-68F0C5EB3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4F91B-5A3A-468C-ADDA-F16E3F0D8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3C5F3-AE7C-40A0-A460-90743EE5C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28F9-E906-442F-A130-E90A5EFEA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1BC4-C7A9-454F-BAC1-50E3D1C1D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5824-2D7D-4B0E-A6F0-2C97FD782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9D95-1C91-4135-A0DA-331E83807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926D-7072-43CC-AE70-4968C0B1B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8AA7-AB3C-4A55-BFF2-DF9829F24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C734-A770-40B6-A169-31B102AE7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12B1F-484C-440B-9319-E0BAA25435A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C86C6-74C4-4DBC-81FC-C782D7A5E8E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pdlp.com/escritor.php?id=2378" TargetMode="External"/><Relationship Id="rId2" Type="http://schemas.openxmlformats.org/officeDocument/2006/relationships/hyperlink" Target="http://www.epdlp.com/escritor.php?id=2378" TargetMode="External"/><Relationship Id="rId3" Type="http://schemas.openxmlformats.org/officeDocument/2006/relationships/hyperlink" Target="http://www.epdlp.com/escritor.php?id=2378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lpasajero.com/Estudiantes1.htm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aeaea"/>
                </a:solidFill>
                <a:latin typeface="Tahoma"/>
              </a:rPr>
              <a:t>La “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Generaci</a:t>
            </a:r>
            <a:r>
              <a:rPr b="1" lang="es-ES_tradnl" sz="4400" spc="-1" strike="noStrike">
                <a:solidFill>
                  <a:srgbClr val="eaeaea"/>
                </a:solidFill>
                <a:latin typeface="Tahoma"/>
              </a:rPr>
              <a:t>ón del 98”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ahoma"/>
              </a:rPr>
              <a:t>y el Modernism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Miguel de 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Unamuno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  <a:hlinkClick r:id="rId3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1864-1936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533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5040360" y="1676520"/>
            <a:ext cx="3916440" cy="4572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295280" y="2743200"/>
            <a:ext cx="2133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nsado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sayist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velis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amaturg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e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ronologí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724280" y="609120"/>
            <a:ext cx="419112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864 Miguel de Unamuno y Jugo nace en Bilbao el 29 de septiembre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873 Sitio y bombardeo de Bilbao por los carlistas. Se interrumpen las clases de Unamun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878 Crisis religiosa de Unamun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891 En enero se casa con Concepción Lizarraga. En junio entabla amistad con Ángel Ganivet y aprueba oposiciones a la Cátedra de Griego en la Universidad de Salamanca. Se instala en dicha ciuda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sa su vida en Salamanca, salvo los períodos de exilio y deportación que sufre por sus ideas polític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cia 1897 experimentó una crisis personal que agudiza sus preocupaciones de carácter religios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42800" y="1295280"/>
            <a:ext cx="3819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ronologí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419720" y="380880"/>
            <a:ext cx="449568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900 Tomó posesión del cargo de rector de la Universidad que perdió en 1914 por declararse partidario de los aliado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924 Deportado por su oposición a la dictadura de Primo de Rivera, a Fuerteventura (Canarias). Se exilia en París y luego en Hendaya, donde vivió hasta 1930. Pierde la cátedra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930 Unamuno regresó a España, se le concedió la cátedra de Historia de la Lengua Española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931 Nombrado de nuevo rector de la Universidad pero despedido del puesto por su simpatía por la rebelión del General Francisco Franco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936 Reinstaurado como rector por Franco pero perdió el puesto por su desaprobación de los nacionalistas. Murió en Salamanca el 31 de diciembre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79440" y="1523880"/>
            <a:ext cx="33955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Obr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say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Vida de Don Quijote y Sanch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1905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l sentimiento trágico de la vida en los hombres y en los puebl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1913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La agonía del Cristianism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1926-1931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velas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Niebl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1914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bel Sánchez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1917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an Manuel Bueno, Márti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1933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ema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Cristo de Velázquez” (1920)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Ramón del Valle-Inclán (1866-1936)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913280" y="1981080"/>
            <a:ext cx="3697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Novelista y cuentis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oe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ramaturg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El pasajer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Sonata de otoño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(1902) Marqués de Bradomín: “un don Juan feo, católico y sentimental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228680" y="1981080"/>
            <a:ext cx="3373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3505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“</a:t>
            </a: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Rosarito”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n Juan Manuel de Montenegro--pariente del Marqués de Bradomí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 patriarca galleg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 señor feudal, bárbaro, arrogante, despótico, mujeriego, rebelde, violento y crue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enerosa, justiciera y leal, vigoroso, lleno de valentí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334120" y="990720"/>
            <a:ext cx="3589200" cy="50292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6172200" y="64008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Tahoma"/>
              </a:rPr>
              <a:t>Jardín de umbrí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Modernismo y decadentismo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aracter</a:t>
            </a: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ísticas del modernismo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vas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steticism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nticonformism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n contra del espíritu materialista y utilitario del siglo XI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xotismo o regreso a un pasado aristocrát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Influencia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Parnasianismo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: perfección formal, alejamiento de la realidad, afición por la mitología greco-latina, nórdica y oriental; gusto de lo estético y decorativ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Simbolismo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: búsqueda de otras realidades escondidas de las cosas (los símbolos) y la correspondencia que existe entre éstos y nuestras sensaciones (color, sonido, músic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Lenguaj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pela a todos los sentid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mpleo de lenguaje figurado, por 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táfo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sonifica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araciones y sími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nestes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jetivación abundan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4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4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aeaea"/>
                </a:solidFill>
                <a:latin typeface="Tahoma"/>
              </a:rPr>
              <a:t>Crisis de fin de siglo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906800" y="1981080"/>
            <a:ext cx="370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Teoría del átomo (Rutherfor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Descubrimiento de la radioactividad (Curi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Teoría de la Relatividad (Einstei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098720" y="1981080"/>
            <a:ext cx="3636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aeaea"/>
                </a:solidFill>
                <a:latin typeface="Tahoma"/>
              </a:rPr>
              <a:t>Adelantos tecnológicos: la modernidad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06800" y="1981080"/>
            <a:ext cx="370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l cinematógraf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l automóvi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l teléfo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l av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Reloj eléctr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066680" y="2644920"/>
            <a:ext cx="3702240" cy="27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aeaea"/>
                </a:solidFill>
                <a:latin typeface="Tahoma"/>
              </a:rPr>
              <a:t>Nuevas corrientes del pensamiento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sicoanálisis (Freud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Marxismo, cobra mayor importanc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xistencialismo (el hombre nace para mori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aeaea"/>
                </a:solidFill>
                <a:latin typeface="Tahoma"/>
              </a:rPr>
              <a:t>El término: Generación del 98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06800" y="1981080"/>
            <a:ext cx="370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Azorín (José Martínez Ruiz) propone el término en unos artículos de 191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Incluye a los siguientes autores: Unamuno, Valle-Inclán, Baroja, Maeztu, A. Machado, Azorín, Ganiv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433520" y="1981080"/>
            <a:ext cx="31827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1898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13280" y="1981080"/>
            <a:ext cx="3697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xplosión del Maine en Santiago de Cub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Guerra con Estados Unidos: comienza el 23 de abri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strucción de flotas españolas del pacífico y del cari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ratado de París: 10 de diciemb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28600" y="2630520"/>
            <a:ext cx="45356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Efecto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Pérdida de las últimas colonia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ependientes: Cuba y Filipina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tectorados de EEUU: Puerto Rico y Gua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isis en España: fin del imperi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lectuales tratan de comprender la esencia de Españ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aeaea"/>
                </a:solidFill>
                <a:latin typeface="Tahoma"/>
              </a:rPr>
              <a:t>Requisitos generacionales (según Pedro Salinas)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Nacimientos en años poco distantes (1864-1875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Formación intelectual semejan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Relaciones entre escrito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articipación en actos colectiv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resencia de un guía (Kierkegaard, Nietzsche, Schopenhauer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Lenguaje generac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Ruptura con la generación anterior (realismo, naturalism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aeaea"/>
                </a:solidFill>
                <a:latin typeface="Tahoma"/>
              </a:rPr>
              <a:t>Problemas con este concepto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eparación de modernismo y 9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Ideologías distint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n la juventud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Unamuno – PSOE, marxis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Maeztu – anhelos socialist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Azorín – anarquis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Baroja – simpatiza con el anarquism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volución de ideologí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Negación por algunos supuestos miembros de la generación (Baroja, Maeztu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oncepto tomado de la sociolog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13:51:56Z</dcterms:created>
  <dc:creator>Gabriela Pozzi</dc:creator>
  <dc:description/>
  <dc:language>en-US</dc:language>
  <cp:lastModifiedBy>WinuE</cp:lastModifiedBy>
  <dcterms:modified xsi:type="dcterms:W3CDTF">2009-03-31T18:12:30Z</dcterms:modified>
  <cp:revision>36</cp:revision>
  <dc:subject/>
  <dc:title>La “Generación del 98”</dc:title>
</cp:coreProperties>
</file>